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1D6-6EB3-491B-8A94-40817A5A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91E-5467-4BBA-B987-C564CA09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3C4-18A9-47F8-A40F-E2C68D4E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572-3BF1-4FDB-A5B7-610666AA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B04-01C2-4353-ACBA-9AFD0A78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7C85-2D98-43C2-AC23-1D28B659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3F3-C02D-4A33-8436-AE866536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57BD-B695-42AC-AEB1-9DFFE8FB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8C6-820A-4E53-AE9E-F0349474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89D-6129-4DD7-8920-C406AB9B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93C-4EC4-4EE3-99D9-2275B0F3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935-CE67-468A-86D9-FA9FB2E0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ADF3-942C-4966-A508-5FC84A0DF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tc.scott.k12.ky.us/technology/digitalstorytelling/connor_T1.mov" TargetMode="External"/><Relationship Id="rId2" Type="http://schemas.openxmlformats.org/officeDocument/2006/relationships/hyperlink" Target="http://www.dtc.scott.k12.ky.us/technology/digitalstorytelling/annoyingsister_t1.mov" TargetMode="External"/><Relationship Id="rId3" Type="http://schemas.openxmlformats.org/officeDocument/2006/relationships/hyperlink" Target="http://www.dtc.scott.k12.ky.us/technology/digitalstorytelling/optimism_t1.mo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Story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Storyt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igital media 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Storytelling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ading or writ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and Health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for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excited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differen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ing with videos, pictures, an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external artifacts an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s links to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caught up in the design instead of th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of th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actice Makes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o brothers or sisters make life f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re you proud to be an Americ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1:02:03Z</dcterms:modified>
  <cp:revision>4</cp:revision>
  <dc:subject/>
  <dc:title>Digital ___________</dc:title>
</cp:coreProperties>
</file>